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D13-F1ED-444C-95CC-76639331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92A-F102-4A78-8D25-E354454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1BC-6672-41DC-A533-99E7B687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0CA-C9DB-4227-AB98-E87F1B94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4B4-FD51-46C7-863F-AA63C941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F08-48EB-49CE-8B5C-88183CA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0AE-B2E1-4AC2-9332-2035462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82F-5E0D-4798-AAD2-A2D42F34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57D-BA83-464B-9ED5-246240F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39B-5CBE-4362-B148-46F5146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CBB-B6E3-4C52-A09F-07C88F4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629-126D-4064-98C8-E9097080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3E3-56FC-4BD0-B189-E4D73EF98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909720" y="969840"/>
            <a:ext cx="73245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01:18Z</dcterms:created>
  <dc:creator>garumugam</dc:creator>
  <dc:description/>
  <dc:language>en-US</dc:language>
  <cp:lastModifiedBy>garumugam</cp:lastModifiedBy>
  <dcterms:modified xsi:type="dcterms:W3CDTF">2014-05-14T11:01:41Z</dcterms:modified>
  <cp:revision>1</cp:revision>
  <dc:subject/>
  <dc:title>PowerPoint Presentation</dc:title>
</cp:coreProperties>
</file>