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695-054F-45F8-AC49-F118D3FD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10D-6793-43C1-A67C-72006D8C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F2A5-EE44-426B-8C2A-90DABD42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36C-0F5F-487A-AD0C-36E2C0F6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9225-5433-4708-B8CA-65DA670B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C25E-7627-44E0-B63F-CF45B8CD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65AC-E43B-452A-8C40-58A4C74E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510-D0F5-4717-9EFA-DCA3AF85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82FD-D498-4EC5-9E7D-9931E273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B0C3-9ABB-45B8-BD37-C6CEC711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6028-B247-4FF0-AA59-5C3F6B84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3D2F-A15D-4360-924C-89DC38B5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5560-4862-4BB4-854F-2A1CCC77E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628560" y="785880"/>
            <a:ext cx="78868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11:00:30Z</dcterms:created>
  <dc:creator>garumugam</dc:creator>
  <dc:description/>
  <dc:language>en-US</dc:language>
  <cp:lastModifiedBy>garumugam</cp:lastModifiedBy>
  <dcterms:modified xsi:type="dcterms:W3CDTF">2014-05-14T11:00:49Z</dcterms:modified>
  <cp:revision>1</cp:revision>
  <dc:subject/>
  <dc:title>PowerPoint Presentation</dc:title>
</cp:coreProperties>
</file>