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211-4378-49CC-833B-E9A60A01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FF29-A6B1-41D1-AE31-F20AB919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30A9-A0C0-4926-919C-0BCDDDD4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81C4-D109-48FB-B3C9-6BF904A2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C941-6D64-40EE-89CF-0B6A7B85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DE4A-0242-493B-9697-B7D7B2DA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4356-2CAD-47B8-9971-F1EC54FE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D1EB-3F65-4029-9450-7D0802DE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1E1F-6C59-437F-8739-A72A0512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6189-0B05-4F39-918E-0FB4205A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0C28-DF7C-45F3-98DB-411AA2AF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8047-8F99-48B9-A3E2-E0A08584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800E-F3E6-47CC-9A08-CE25423BF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4390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09:40:21Z</dcterms:created>
  <dc:creator>sieb01</dc:creator>
  <dc:description/>
  <dc:language>en-US</dc:language>
  <cp:lastModifiedBy>sieb01</cp:lastModifiedBy>
  <dcterms:modified xsi:type="dcterms:W3CDTF">2014-02-28T09:42:33Z</dcterms:modified>
  <cp:revision>4</cp:revision>
  <dc:subject/>
  <dc:title>Dia 1</dc:title>
</cp:coreProperties>
</file>