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C1CD-3050-40C4-86DA-EA0B2DC8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C2F0-30A3-4517-A6F4-6E3C10F9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BEAC-FDD0-407D-BE1C-CD0CA024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85A-C675-41E0-A00B-A35A476E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B7E-651C-491A-AAA6-ABA4DF2D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BC07-E65C-43A1-8BEA-21F65CF4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A1B-A401-4EB5-9C6F-4DED1807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FB5B-0F83-4AE0-9B49-917F3180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E1C9-7EF6-407F-A5A5-0E30FD64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5E56-36A8-4714-B8E4-35048756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71D-5E33-4FE7-918B-A2D2903E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A5D-FA6D-48FF-8880-C4FFDF7B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40C2-1B30-4D8A-9C6D-8479FCF7A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107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09:40:21Z</dcterms:created>
  <dc:creator>sieb01</dc:creator>
  <dc:description/>
  <dc:language>en-US</dc:language>
  <cp:lastModifiedBy>sieb01</cp:lastModifiedBy>
  <dcterms:modified xsi:type="dcterms:W3CDTF">2014-02-28T09:44:20Z</dcterms:modified>
  <cp:revision>9</cp:revision>
  <dc:subject/>
  <dc:title>Dia 1</dc:title>
</cp:coreProperties>
</file>