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ACD80-D126-47B7-B684-41D0A6414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89329-C249-4E97-ADEC-B37625044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293F3-44FC-4B17-99C2-B89E0A5DC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0384E-D7A1-4F02-A741-303C5FDB7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3C629-6C1E-4FB9-8EB2-0D18071E9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E1665-6DCC-42AC-871A-E57851F3E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F655D-E3A3-4264-9E3F-FD87CEC63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1B32C-0131-4E78-A80B-4B6BCDB71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34F3C-1445-4F10-AACD-783C7C19D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2249C-542D-4A8E-AB4C-CD090235E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0D4B9-298F-4316-BE4E-C22676F1F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FF0B8-2672-4E66-90CA-7EC7FF500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51770-859A-4A05-914C-E14B283CB6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"/>
          <p:cNvPicPr/>
          <p:nvPr/>
        </p:nvPicPr>
        <p:blipFill>
          <a:blip r:embed="rId1"/>
          <a:stretch/>
        </p:blipFill>
        <p:spPr>
          <a:xfrm>
            <a:off x="636480" y="785880"/>
            <a:ext cx="7871040" cy="52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14T11:03:48Z</dcterms:created>
  <dc:creator>garumugam</dc:creator>
  <dc:description/>
  <dc:language>en-US</dc:language>
  <cp:lastModifiedBy>garumugam</cp:lastModifiedBy>
  <dcterms:modified xsi:type="dcterms:W3CDTF">2014-05-14T11:04:06Z</dcterms:modified>
  <cp:revision>1</cp:revision>
  <dc:subject/>
  <dc:title>PowerPoint Presentation</dc:title>
</cp:coreProperties>
</file>