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527-AB95-43CF-8D21-D12BA79B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7E4-E53A-42EC-894A-FFCE84D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32B-2F34-4FEE-A083-795CFB47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A0C-3367-4A0C-8748-2DC6C9AD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EB68-9D8F-44D0-A1DB-E9E1EB5A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2AF-44A0-4839-B181-B7A674A9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CF2-E768-4ECA-BA00-E16EE9FD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B7B-0BED-44E9-A2A2-4A09D7E5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642-7DA8-496A-AB01-31CA70AC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76A-7225-43AB-8E7B-3EC90FD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C249-7729-4EE2-8DAD-E6025C0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82B-69F9-4BCB-BD77-B41CD02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79E2-D4F2-4B0B-8C4F-CDEB78A3D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84160" y="969840"/>
            <a:ext cx="737568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0:58:50Z</dcterms:created>
  <dc:creator>garumugam</dc:creator>
  <dc:description/>
  <dc:language>en-US</dc:language>
  <cp:lastModifiedBy>garumugam</cp:lastModifiedBy>
  <dcterms:modified xsi:type="dcterms:W3CDTF">2014-05-14T10:59:27Z</dcterms:modified>
  <cp:revision>1</cp:revision>
  <dc:subject/>
  <dc:title>PowerPoint Presentation</dc:title>
</cp:coreProperties>
</file>