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FD0-3D84-414E-ACB2-95C403B4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35E-19BA-4B91-88B5-730E46B2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69C-9525-408F-8102-30159214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586-8394-4A91-B536-EE3E2152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069-0A84-45B7-8505-4510EB6C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30C-30F3-4FAE-B363-69B06515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3B4-EF1D-45F0-8BD7-6D235741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686-9366-4394-A49D-20747D92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6A7-3D36-4516-9B63-8CD1838F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8C0-EDB0-460F-99AD-EC05BFD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F81-A344-4152-97A2-4EF0F410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94C-DDC6-444E-92F0-5BDA6707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0547-B342-485C-A611-C22D0FEEF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966960" y="1031760"/>
            <a:ext cx="721008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10:52:59Z</dcterms:created>
  <dc:creator>garumugam</dc:creator>
  <dc:description/>
  <dc:language>en-US</dc:language>
  <cp:lastModifiedBy>garumugam</cp:lastModifiedBy>
  <dcterms:modified xsi:type="dcterms:W3CDTF">2014-05-14T10:55:40Z</dcterms:modified>
  <cp:revision>1</cp:revision>
  <dc:subject/>
  <dc:title>PowerPoint Presentation</dc:title>
</cp:coreProperties>
</file>