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D4A-7DD7-49AD-9D74-BC72C1CC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5E3-4349-4FFB-B9A3-648B35F9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F2E-EB5F-4612-8410-55E12F68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257-1669-408D-9F53-A6331279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DB7-A5C6-4FF8-86B1-2259F7F5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C9A-7F2F-4C2B-9476-2790CC71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954-D9A9-4E03-B719-3C1D82D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C6E-7768-4CC2-9657-21EFF3F1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4DD-51FF-40F8-B795-7AC4C2B4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336-640E-4096-98DC-B81EB842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3EE-8C5F-42F2-89C1-E6D6BE8C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50B-B146-4508-8C02-D6DB165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835B-1A1D-4A8A-95C2-5CBD7656B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39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09:40:21Z</dcterms:created>
  <dc:creator>sieb01</dc:creator>
  <dc:description/>
  <dc:language>en-US</dc:language>
  <cp:lastModifiedBy>sieb01</cp:lastModifiedBy>
  <dcterms:modified xsi:type="dcterms:W3CDTF">2014-02-28T09:41:53Z</dcterms:modified>
  <cp:revision>3</cp:revision>
  <dc:subject/>
  <dc:title>Dia 1</dc:title>
</cp:coreProperties>
</file>