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D29-8353-4CEF-B99F-E2B504E8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179-7307-49AC-A6C1-06074C0A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F0B-CE51-43A5-AB58-ECCAE84A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F31-5102-4EC7-9F1C-8B62E978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0A5-343F-46D4-9BD2-61134326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9E2-3193-49FC-B69B-869F51A8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E50-09E8-414C-8690-4410F4C7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91E-8B71-4A47-B5BF-C7CE4F6B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864-9773-4873-9E5B-4A60AA0E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225-1A86-4D41-BFA6-F47D884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384-60D1-4ED2-BC31-2CDBA80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968-0392-4F4B-A4DD-F47E68D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91DB-DE2D-482D-AF0F-EFAAB013D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0866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9:40:21Z</dcterms:created>
  <dc:creator>sieb01</dc:creator>
  <dc:description/>
  <dc:language>en-US</dc:language>
  <cp:lastModifiedBy>sieb01</cp:lastModifiedBy>
  <dcterms:modified xsi:type="dcterms:W3CDTF">2014-02-28T09:43:34Z</dcterms:modified>
  <cp:revision>7</cp:revision>
  <dc:subject/>
  <dc:title>Dia 1</dc:title>
</cp:coreProperties>
</file>