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8FB8-582B-4DE5-9491-07E15ECC7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767C-3FD5-4AEA-A8BF-81C02A54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93BF-75F0-4BA2-8A48-044CD7230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86A5-60DA-4744-9089-5A330D950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0E97-A0F3-49A3-ABDA-0A1FCA97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6ABD-5616-44B9-AC0A-D231B9C9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CBEE-6AA5-4DEC-BFBA-17034628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A5E9-6AB0-45F0-BDC6-E9AFA7B2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77C6-1967-4769-8EA2-B86A41AB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1061-A8F7-47C5-84E2-54373DD5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0ABD-058C-43FE-A070-407C56AF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BB12-A73B-447F-A4F7-D8EB0345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337A-C3C5-4350-B203-873CB23341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1084320" y="1084320"/>
            <a:ext cx="697536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4T11:02:09Z</dcterms:created>
  <dc:creator>garumugam</dc:creator>
  <dc:description/>
  <dc:language>en-US</dc:language>
  <cp:lastModifiedBy>garumugam</cp:lastModifiedBy>
  <dcterms:modified xsi:type="dcterms:W3CDTF">2014-05-14T11:02:32Z</dcterms:modified>
  <cp:revision>1</cp:revision>
  <dc:subject/>
  <dc:title>PowerPoint Presentation</dc:title>
</cp:coreProperties>
</file>