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699-A7E8-4853-8CBA-7B71EFEF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7B81-BB9F-4FD3-BA4D-04F1924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FBC-950F-4113-81E3-6C05FB74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33A-7685-40CC-9DB5-37001539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F45-7E73-40D0-9EF6-4888109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846-FFAE-4442-8757-69FED7C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3C0-9029-4230-AAA2-402EB93C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5C9-ECCD-4A01-B53C-19F372C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EA8-8060-49C0-BD78-63FA6F40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E6C-1334-4F19-A8C2-A1D9E8E6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343-9E72-4E90-B020-EDE0780A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E44-C07E-4C73-A199-0C36D62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AB6-46BF-4D78-8443-0E78A5520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866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3:57Z</dcterms:modified>
  <cp:revision>8</cp:revision>
  <dc:subject/>
  <dc:title>Dia 1</dc:title>
</cp:coreProperties>
</file>