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EF7-625A-4FFC-A0A6-1B42A4CD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EE2-BB03-4270-98E2-17E9B3B4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63B-9858-4328-B037-D4EE231D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52E-19D1-4D52-BD67-BB5499F9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E5D-0ED0-4498-9FCD-A2C4FF78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3CA-27AE-461B-827C-2B5E57A0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831-4ABA-4C23-AC40-936659A2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386-1E97-4E0E-ACED-1B5AAD2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A87-A961-427F-A292-AA6CE734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12F-431C-4492-AE81-EF874A3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2F7-9EED-4A47-B5F8-C5A1DE64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692-7EB1-459A-B468-0F6C3CA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550C-5A4F-4A1A-84F4-D20A2D08E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39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3:15Z</dcterms:modified>
  <cp:revision>6</cp:revision>
  <dc:subject/>
  <dc:title>Dia 1</dc:title>
</cp:coreProperties>
</file>