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8E35-1934-44F4-96D7-EF84B66D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3AB9-EF19-482F-A649-FBACD3CF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98C4-96E0-488D-8338-27CAB30A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47AE-4C30-4954-8E5A-FC05A99E3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1684-28B1-4086-92DF-A05F4457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3159-DA91-4EFF-BF89-1155A1ED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5DF0-2368-4D82-973E-4676C97D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5A6F-CBBF-4259-92D1-025961BC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59A8-6AE5-4CF6-BF60-BFC104A8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143C-BD02-4653-94AF-2FB8B0BC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9FD8-2360-49B3-AA0F-083021F0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EF67-DF26-4CB8-86FE-DC9AB8C5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64C5-2EF4-4BB8-A697-E0A4FA52E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0103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8T09:40:21Z</dcterms:created>
  <dc:creator>sieb01</dc:creator>
  <dc:description/>
  <dc:language>en-US</dc:language>
  <cp:lastModifiedBy>sieb01</cp:lastModifiedBy>
  <dcterms:modified xsi:type="dcterms:W3CDTF">2014-02-28T09:42:53Z</dcterms:modified>
  <cp:revision>5</cp:revision>
  <dc:subject/>
  <dc:title>Dia 1</dc:title>
</cp:coreProperties>
</file>