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2C5-7843-43C6-BD7D-783B9133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84C-7156-4196-959E-1A8D744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92A-CA7B-4E46-B0D4-4216C192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CCD-8CD1-4039-84B5-0E3D3C3C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B7C-B395-461F-9DD4-3E98573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215-1A99-4047-873D-5BCE2D42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857-5CC4-41E5-95D2-19B2F5D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F83-F674-4A61-A297-CD37998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A0E-724A-40E0-B633-B40B8943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180-4005-4122-90F9-E95EDB2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887-01D7-4486-85DE-A6684FC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931-7119-41FC-83D9-C830B79B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2C69-C2D0-420B-8154-2AE5CFCCE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89000" y="1084320"/>
            <a:ext cx="69660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02:59Z</dcterms:created>
  <dc:creator>garumugam</dc:creator>
  <dc:description/>
  <dc:language>en-US</dc:language>
  <cp:lastModifiedBy>garumugam</cp:lastModifiedBy>
  <dcterms:modified xsi:type="dcterms:W3CDTF">2014-05-14T11:03:15Z</dcterms:modified>
  <cp:revision>1</cp:revision>
  <dc:subject/>
  <dc:title>PowerPoint Presentation</dc:title>
</cp:coreProperties>
</file>